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0ADEC-6228-4323-A57A-770307B23C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CB5A4-68F3-471B-9C0C-871AFBB738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A4B6-A2A3-4A25-845D-AC4BE4F24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6724-002F-4818-8B14-5F17DABC4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001E-BD94-40E7-B8AA-AAC7FC60B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D108-14A2-49C8-9BBF-5B503E57E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4A65-F913-4251-AFBB-7BE7F79EE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F6C1-61DE-4C6E-B38E-77C70E63B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A142-FECF-422C-8C5F-B5917FEAB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502E-9F9B-460A-9A0C-A780BEA80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1233-A847-4930-BDF0-41EF0A6FB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6F27-DD26-4DD2-9E41-6E48BB4FD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4F4A-70CA-4FF2-9E1A-D9838986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E81E-BC3B-496F-BB0A-95DBC8B3D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1A350-17DC-48C0-B73C-5AF1BEF330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.03 Which country or region produces the smallest amount of petroleu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ou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.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Rus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Middle 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14_04t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.04 Per capita energy consumption is highest 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Europ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Middle 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ou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East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.04 Per capita energy consumption is highest 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Europ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Middle 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ou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East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14_06t"/>
          <p:cNvPicPr/>
          <p:nvPr/>
        </p:nvPicPr>
        <p:blipFill>
          <a:blip r:embed="rId1"/>
          <a:stretch/>
        </p:blipFill>
        <p:spPr>
          <a:xfrm>
            <a:off x="0" y="523800"/>
            <a:ext cx="9144000" cy="48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.05 Nuclear energ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Is most common in less developed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Has a high cost relative to other energ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Is a renewable re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Has yet to have significant environmenta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Was first produced in the late nineteen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.05 Nuclear energ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Is most common in less developed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 Has a high cost relative to other energ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Is a renewable re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Has yet to have significant environmenta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Was first produced in the late nineteen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.06 Of the following regions or countries, which is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mportant source of minera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North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ustra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Ch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Sou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.06 Of the following regions or countries, which is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mportant source of minera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 North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ustra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Ch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Sou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14_12"/>
          <p:cNvPicPr/>
          <p:nvPr/>
        </p:nvPicPr>
        <p:blipFill>
          <a:blip r:embed="rId1"/>
          <a:stretch/>
        </p:blipFill>
        <p:spPr>
          <a:xfrm>
            <a:off x="0" y="520560"/>
            <a:ext cx="9144000" cy="48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a few minutes to review the Ch. 14 pack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’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.07 The temperature of the atmosphere was highest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18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19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19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19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.07 The temperature of the atmosphere was highest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18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19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19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19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5.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14_13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.08 Acid precipitation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 global phenomen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Most prevalent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Unrelated to prevailing wi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Most common near industrial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None of th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.08 Acid precipitation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 global phenomen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Most prevalent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Unrelated to prevailing wi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Most common near industrial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None of th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14_14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.09 Which type of renewable energy produces the most air pollu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uclear f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Hydroelectr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Bio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o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W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.09 Which type of renewable energy produces the most air pollu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uclear f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Hydroelectr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. Bio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o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W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.10 Biodiversity in the tropics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Increased by defores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A function of numbers of species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 function of distribution of species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Decreasing due to species extin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Unaffected by shifting cul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.10 Biodiversity in the tropics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Increased by defores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A function of numbers of species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 function of distribution of species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Decreasing due to species extin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Unaffected by shifting cul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.01 The greatest proportion of energy use in the United States invol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Hydroelectric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Nuclear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o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Natural 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Petroleu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.01 The greatest proportion of energy use in the United States invol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Hydroelectric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Nuclear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o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Natural 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5. Petrole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14_01"/>
          <p:cNvPicPr/>
          <p:nvPr/>
        </p:nvPicPr>
        <p:blipFill>
          <a:blip r:embed="rId1"/>
          <a:stretch/>
        </p:blipFill>
        <p:spPr>
          <a:xfrm>
            <a:off x="0" y="584280"/>
            <a:ext cx="9144000" cy="49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.02 Fossil fuels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Essentially infinite in 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Distributed relatively evenly around the glo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 source of renewable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Not a significant source of pol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None of th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.02 Fossil fuels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Essentially infinite in 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Distributed relatively evenly around the glo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 source of renewable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Not a significant source of pol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5. None of th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14_02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.03 Which country or region produces the smallest amount of petroleu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ou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Rus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Middle 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3T21:30:07Z</dcterms:created>
  <dc:creator>Michael Pretes</dc:creator>
  <dc:description/>
  <dc:language>en-US</dc:language>
  <cp:lastModifiedBy>DoTS</cp:lastModifiedBy>
  <dcterms:modified xsi:type="dcterms:W3CDTF">2012-05-21T14:33:14Z</dcterms:modified>
  <cp:revision>81</cp:revision>
  <dc:subject/>
  <dc:title>CRS Chapter 4</dc:title>
</cp:coreProperties>
</file>